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199317-BEB0-4390-BA95-8594E4FB9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79F78E-36AA-45F2-884B-30E892D36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88F9D6-9D29-4CF0-ABC1-CDFEF3FFE2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66133A-C97C-494D-BDDD-F40853ACE2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5DDE0-F0C1-4585-9356-587123CA6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29865-C2E5-4AE3-8F8E-5EFE27773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2E55C-C4D7-4470-92DC-C148C1F49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36742-56EB-4FB7-8653-C24E83BC9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416D8-DAB7-42F4-866B-66DC6DE40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AA8BA-EF4E-4802-8937-B142AFF91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86A14-6B40-48D7-B1C0-7D4818CBC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575F4-4E23-4093-B64B-697CC0DB0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43D45-0DF8-4BC6-9EAB-5B86489A5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7B4D5-742C-4DB6-AD4D-839969073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B4DC0-7F2C-4B65-BBCE-01F9153A9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7BD81-76F1-44C4-AF77-71F8B8696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38E93-BABD-4136-9D16-344BCE0DD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7590A-5DF4-4EDF-A58A-883389B45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F1C606-902E-46F4-9E44-3B1209F34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1973A2-9CF1-4E05-A52D-8C2C26053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92190-F452-48AE-8096-1046572D6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10568-D0F1-46EE-B12A-9C2881D25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BC3C8-78A2-44FF-B7E4-FC35B62FF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DDB6B-B9C9-4113-8612-4FEF86A684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A442-60E6-474A-B290-85FC3C64D5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B3BF-C540-46D7-B2C4-00AAF020DA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d.gov/about/offices/list/os/technology/plan/2004/site/edlite-default.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pewinternet.org/PPF/r/36/report_display.as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National Education Technology Plan</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22100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omic Sans MS"/>
              </a:rPr>
              <a:t>How the NETP supports the goals of NCLB</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rriculum Services Associ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What is our Challenge?</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create learning environments that fully engage this gen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ensure that these students have the skills and knowledge to be productive members of a global, information based econom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99ff"/>
                </a:solidFill>
                <a:latin typeface="Arial"/>
              </a:rPr>
              <a:t>Are we ready for this 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Comic Sans MS"/>
              </a:rPr>
              <a:t>National Education Technology Plan: </a:t>
            </a:r>
            <a:r>
              <a:rPr b="0" i="1" lang="en-US" sz="4000" spc="-1" strike="noStrike">
                <a:solidFill>
                  <a:srgbClr val="00007d"/>
                </a:solidFill>
                <a:latin typeface="Comic Sans MS"/>
              </a:rPr>
              <a:t>The Future is Now</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 Action Step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Leadership</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Innovative Budge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Teacher Train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Learning and Virtual Schoo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Broadband Acc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ward Digital Cont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Data Systems</a:t>
            </a:r>
            <a:endParaRPr b="0" lang="en-US" sz="24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National Education Technology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Strengthen Leadership</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in leadership development programs to develop a new generation of tech-savvy leaders at every level.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ool administrator education programs to provide training in technology decision making and organizational chang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artnerships between schools, higher education and the commun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reative technology partnerships with the business commun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students’ participation in the planning proces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Consider Innovative Budgeting</a:t>
            </a:r>
            <a:endParaRPr b="0" lang="en-US" sz="4400" spc="-1" strike="noStrike">
              <a:solidFill>
                <a:srgbClr val="000000"/>
              </a:solidFill>
              <a:latin typeface="Arial"/>
            </a:endParaRPr>
          </a:p>
        </p:txBody>
      </p:sp>
      <p:sp>
        <p:nvSpPr>
          <p:cNvPr id="131" name="PlaceHolder 2"/>
          <p:cNvSpPr>
            <a:spLocks noGrp="1"/>
          </p:cNvSpPr>
          <p:nvPr>
            <p:ph/>
          </p:nvPr>
        </p:nvSpPr>
        <p:spPr>
          <a:xfrm>
            <a:off x="380880" y="213336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otal costs for technology as a percentage of total spending.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ic restructuring of budgets to realize efficiencies, cost savings and realloca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leasing with 3-5 year refresh cyc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chnology innovation fund to carry funds over yearly budget cycle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Improve Teacher Training</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reparation of new teachers in the use of technology.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every teacher has the opportunity to take online learning cours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quality and consistency of teacher education through measurement, accountability and increased technology resourc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every teacher knows how to use data to personalize instru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Comic Sans MS"/>
              </a:rPr>
              <a:t>Support E-Learning and Virtual Schools</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very student access to e-lear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every teacher to participate in e-learning trai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use of e-learning options to meet </a:t>
            </a:r>
            <a:r>
              <a:rPr b="0" i="1" lang="en-US" sz="2400" spc="-1" strike="noStrike">
                <a:solidFill>
                  <a:srgbClr val="000000"/>
                </a:solidFill>
                <a:latin typeface="Arial"/>
              </a:rPr>
              <a:t>No Child Left Behind</a:t>
            </a:r>
            <a:r>
              <a:rPr b="0" lang="en-US" sz="2400" spc="-1" strike="noStrike">
                <a:solidFill>
                  <a:srgbClr val="000000"/>
                </a:solidFill>
                <a:latin typeface="Arial"/>
              </a:rPr>
              <a:t> requirements for highly qualified teachers, supplemental services and parental choic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creative ways to fund e-learning opportunitie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quality measures and accreditation standards for e-learning that mirror those required for course cred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Encourage Broadband Access</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ly evaluate existing technology infrastructure and access to broadband to determine current capacities and explore ways to ensure its reliabil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at broadband is available all the way to the end-user for data management, online and technology-based assessments, e-learning, and accessing high-quality digital conten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availability of adequate technical support to manage and maintain computer networks, maximize</a:t>
            </a:r>
            <a:br>
              <a:rPr sz="2400"/>
            </a:br>
            <a:r>
              <a:rPr b="0" lang="en-US" sz="2400" spc="-1" strike="noStrike">
                <a:solidFill>
                  <a:srgbClr val="000000"/>
                </a:solidFill>
                <a:latin typeface="Arial"/>
              </a:rPr>
              <a:t>educational uptime and plan for future need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Move Toward Digital Content</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eachers and students are adequately trained in the use of online conten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ubiquitous access to computers and connectivity for each studen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costs and benefits of online content, aligned with rigorous state academic standards, as part of a systemic approach to creating resources for students to customize learning to their individual nee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Integrate Data Systems</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plan to integrate data systems so that administrators and educators have the information they need to increase efficiency and improve student lear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ata from both administrative and instructional systems to understand relationships between decisions, allocation of resources and student achievemen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interoperabil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sessment results to inform and differentiate instruction for every chil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What We Now Know!</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ents need the competence and knowledge to compete in a technology driven econom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odels of education facilitated by technology are vital in the proc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savvy students are often far ahead of their teach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arning and Virtual Schools hold promise for educ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46280" y="874800"/>
            <a:ext cx="7635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85800" y="1371600"/>
            <a:ext cx="8077320" cy="487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ahoma"/>
                <a:ea typeface="Times New Roman"/>
              </a:rPr>
              <a:t>“</a:t>
            </a:r>
            <a:r>
              <a:rPr b="0" lang="en-US" sz="2800" spc="-1" strike="noStrike">
                <a:solidFill>
                  <a:srgbClr val="00007d"/>
                </a:solidFill>
                <a:latin typeface="Tahoma"/>
                <a:ea typeface="Times New Roman"/>
              </a:rPr>
              <a:t>We cannot assume that our schools will naturally drift toward using technology effectively. We must commit ourselves to staying the course and making the changes necessary to reach our goals of educating every child. These are ambitious goals, but they are goals worthy of a great nation such as ours. Together, we can use technology to ensure that no child is left behind.”</a:t>
            </a:r>
            <a:br>
              <a:rPr sz="2800"/>
            </a:b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President George W. Bu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A Final Thought…..</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99ff"/>
                </a:solidFill>
                <a:latin typeface="Arial"/>
              </a:rPr>
              <a:t>Over the next decade hopefully we will see a spectacular rise in the achievement of our students due to the creative and exciting era of education that is upon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As it Stands</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last 20 years, despite the investment of hundreds of billions of dollars in education, reading and math scores remained essentially fl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A Change is in the Air</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ement about the changes that the digital age brings to how we learn and how we tea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are driven by NCLB.</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d are fueled by ou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Goals of NCLB</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hild can read by the 3</a:t>
            </a:r>
            <a:r>
              <a:rPr b="0" lang="en-US" sz="3200" spc="-1" strike="noStrike" baseline="30000">
                <a:solidFill>
                  <a:srgbClr val="000000"/>
                </a:solidFill>
                <a:latin typeface="Arial"/>
              </a:rPr>
              <a:t>rd</a:t>
            </a:r>
            <a:r>
              <a:rPr b="0" lang="en-US" sz="3200" spc="-1" strike="noStrike">
                <a:solidFill>
                  <a:srgbClr val="000000"/>
                </a:solidFill>
                <a:latin typeface="Arial"/>
              </a:rPr>
              <a:t> gra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re technology literate by 8</a:t>
            </a:r>
            <a:r>
              <a:rPr b="0" lang="en-US" sz="3200" spc="-1" strike="noStrike" baseline="30000">
                <a:solidFill>
                  <a:srgbClr val="000000"/>
                </a:solidFill>
                <a:latin typeface="Arial"/>
              </a:rPr>
              <a:t>th</a:t>
            </a:r>
            <a:r>
              <a:rPr b="0" lang="en-US" sz="3200" spc="-1" strike="noStrike">
                <a:solidFill>
                  <a:srgbClr val="000000"/>
                </a:solidFill>
                <a:latin typeface="Arial"/>
              </a:rPr>
              <a:t> gra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ghly qualified teacher in every public school classroom by 200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to be used to drive decisions, target resources, and support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The Student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most diverse popul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of age with the Intern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community lies within a digital 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ff"/>
                </a:solidFill>
                <a:latin typeface="Arial"/>
              </a:rPr>
              <a:t>They influence the present and they are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They are the </a:t>
            </a:r>
            <a:r>
              <a:rPr b="1" lang="en-US" sz="4400" spc="-1" strike="noStrike">
                <a:solidFill>
                  <a:srgbClr val="00007d"/>
                </a:solidFill>
                <a:latin typeface="Comic Sans MS"/>
              </a:rPr>
              <a:t>Millenials</a:t>
            </a:r>
            <a:endParaRPr b="0" lang="en-US" sz="4400" spc="-1" strike="noStrike">
              <a:solidFill>
                <a:srgbClr val="000000"/>
              </a:solidFill>
              <a:latin typeface="Arial"/>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90%</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that doing well in school is importan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o continue their education after high schoo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nternet for school related projec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ff"/>
                </a:solidFill>
                <a:latin typeface="Arial"/>
              </a:rPr>
              <a:t>In addition, family is important, they take a real interest in the world and their community, and have substantial purchasing power.</a:t>
            </a:r>
            <a:endParaRPr b="0" lang="en-US" sz="2000" spc="-1" strike="noStrike">
              <a:solidFill>
                <a:srgbClr val="000000"/>
              </a:solidFill>
              <a:latin typeface="Arial"/>
            </a:endParaRPr>
          </a:p>
          <a:p>
            <a:pPr lvl="1" marL="743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6699"/>
                </a:solidFill>
                <a:uFillTx/>
                <a:latin typeface="Arial"/>
                <a:hlinkClick r:id="rId1"/>
              </a:rPr>
              <a:t>Pew Internet &amp; American Life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Teens and Young Children</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onlin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ly on Internet sources for schoo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feel the Internet improves relationship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 messaging is the preferred method of communication</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And, over 70% of young children use home computers on a weekly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What does this mea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students feel strongly about the value of technolo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use technology in nearly every aspect of their lif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more comfortable with computers than their parents and teacher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We have technology in our blood”</a:t>
            </a:r>
            <a:endParaRPr b="0" lang="en-US" sz="32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gh School Stud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y</cp:lastModifiedBy>
  <dcterms:modified xsi:type="dcterms:W3CDTF">2006-07-18T02:51:06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